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78E2-FFCD-4772-B99A-CE84BF47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13F7-0C6B-4677-97FE-CFF6AE9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FCB0-1855-41D3-A2C0-1F29C0A0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56A3-83BF-41E2-AEC4-8ED1D3A8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3A1-3702-46EC-91A4-6506C198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3E47-D4F8-48CD-A94E-1129BAD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D5E0-F2F3-4DC3-B131-01D98959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6AAB-07C8-406B-B8F3-AEE1918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D0B1-6455-4E64-8F45-A416B293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332-C2A3-4FD0-8BEE-885BB52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8C9-3798-43EE-B192-4E0D014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90B3-8170-4FB5-91F2-406F88C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FBB-3ABF-4B28-AB5F-BCFE848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EE9-998C-46D6-B382-E76EBE4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A94A-78E1-4101-B0F7-BD23986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D9E5-FF80-48F1-A1AA-F21CF5FB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B8EC-D55D-4F88-9DD6-48D548C2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0FE2-F1AE-4ADA-82B3-938A679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C248-9F67-4389-91BC-26538458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CAAC-4A89-433E-B507-46636DA9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563A-68B4-472A-9FC4-6D43E39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E293-3E8B-4D60-B8C2-62A2C82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8E90-B3E7-4797-9CEF-FAC9269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D9A7-5EF8-44A8-BCA5-061D767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4964-C526-44DC-9437-40C68681B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3AD-CCAD-444B-879F-ED427F56EC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noun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br>
              <a:rPr sz="3600"/>
            </a:b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twins decided to wear _______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oes out of the stor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brother Juan practiced ______ guitar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hours every da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brother Juan practiced ______ guitar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hours every da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one wants to have _______ identi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 or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one wants to have _______ identi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is or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of the sisters had _______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dro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of the sisters had _______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dro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ter deliberating for only twenty minut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jury reached _______ verdi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ter deliberating for only twenty minut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jury reached _______ verdi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audience booed when ___ realiz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singer was tone-deaf and hoar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pronou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nou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places nouns or other pronouns in a sentence so that you do not have to repeat them. In the following sentence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pronoun that replac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gave m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numb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oun or pronoun that a pronoun replaces is called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teced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In the previous sentence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anteceden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audience booed when ___ realiz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singer was tone-deaf and hoar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of the products we use in Americ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day ______ were manufactured abro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of the products we use in America toda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_____ were manufactured abro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no pronoun is necessary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 this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gave the gift to Sony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gave the gift to Sony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son likes to make a mess, but ___ hat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 take a bat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son likes to make a mess, but ___ hat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 take a bat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Grace explained what was wrong, I was ab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help _____ solve the probl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Grace explained what was wrong, I was ab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help _____ solve the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 is very proud of _____ family’s histor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the following points in mind about pronouns. (See your textbook for more specific details and advice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must agree with (match) the noun it refers to in number: Both must be singular (one) or plural (more than one). In the following sentence, the pronou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gree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 Tra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cause both are plura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u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pronoun refers to a singular noun, it must also match that noun in gender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masculine nouns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feminine nouns,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genderless nouns. In the following sentenc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gree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k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cause both are singular and masculin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k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k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ffee ho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efinite pronouns (lik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nybody, everyon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some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often take singular verb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 is very proud of _____ family’s histor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dog brought the ball back to Claudi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dog brought the ball back to Claudi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pril and _____ go to the movies ever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turday n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pril and _____ go to the movies ever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turday nigh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a runs faster than 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a runs faster than 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students have worked harder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students have worked harder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th comes more easily to Bashar than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oes to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lective nouns (lik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udience, class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grou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are often singular, unless the people in a group are acting separate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should refer to only one noun, and it should be clear what that noun 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CLEA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el told Robert that he had to work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Which one of them had to work?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EA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el told Robert to wor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shoul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pla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subject of a sentence, no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pea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CORRECT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tter carrier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ame at no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RRECT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tter carrier came at no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th comes more easily to Bashar than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oes to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ny Depp is the actor _____ play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dward Scissorhan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ny Depp is the actor _____ play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dward Scissorhan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erson with ____ you spoke no long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s at this offi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erson with ____ you spoke no long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s at this offi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_____ did you get your unique fashi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nse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_____ did you get your unique fashi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nse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pronoun serves as the subject of a verb: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likes canoe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object pronoun either receives the action of the verb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ol too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to the st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or is part of a prepositional phrase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aul gave the watch to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ve pronouns show ownership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at car is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in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careful with pronoun usage in the following types of sent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with more than one subject or object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ula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work together. Lula works with Joe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presenting comparisons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llette drives faster th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 Collette likes Tina more th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The previous sentence mean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llette likes Tina more than she likes 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ways a subject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ways an object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ck is the m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works at my company. Rick is the man to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sent the mem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mpany laid off all of ______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mploye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mpany laid off all of ______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mploye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) none of the above; the correct answ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br>
              <a:rPr sz="3600"/>
            </a:b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twins decided to wear _______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oes out of the stor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9:46:59Z</dcterms:modified>
  <cp:revision>218</cp:revision>
  <dc:subject/>
  <dc:title>Sentence Fragments</dc:title>
</cp:coreProperties>
</file>